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250-1FCF-463E-AEE2-A4D02C0D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776-2B77-47AE-8FE3-6336B85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3BC-D7FB-41E5-A40B-3EFF212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A7E-4DE5-483F-8CCE-6F99802A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3D2-A1C4-49D0-A615-11DBDE20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6D8-BC46-4C8D-8905-49140B75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2F5-A39E-4165-8618-E1E798AC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81C-666D-4CC1-A867-F8D238FA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293-E193-44C6-8157-5E88016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DC7-C493-4508-A3BA-D60209A6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234-6B6B-4DE2-9A70-3FCC520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D8D-4ABE-4A6B-BDE6-CD4FE4B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B43E-6B62-461D-A250-3F1EDAF16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olmath4kids.com/fractals/fractalgenerators/generator3/index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84200" y="165240"/>
            <a:ext cx="7491600" cy="6605280"/>
            <a:chOff x="1384200" y="165240"/>
            <a:chExt cx="7491600" cy="660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384200" y="165240"/>
              <a:ext cx="7491600" cy="60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828800" y="5270400"/>
              <a:ext cx="6516720" cy="1500120"/>
            </a:xfrm>
            <a:custGeom>
              <a:avLst/>
              <a:gdLst/>
              <a:ahLst/>
              <a:rect l="l" t="t" r="r" b="b"/>
              <a:pathLst>
                <a:path w="4105" h="945">
                  <a:moveTo>
                    <a:pt x="0" y="0"/>
                  </a:moveTo>
                  <a:lnTo>
                    <a:pt x="4104" y="0"/>
                  </a:lnTo>
                  <a:lnTo>
                    <a:pt x="4104" y="944"/>
                  </a:lnTo>
                  <a:lnTo>
                    <a:pt x="0" y="9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55800" y="5499000"/>
              <a:ext cx="47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 - 36"/>
                </a:rPr>
                <a:t>Year 9 Unit 5 proje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75120" y="6019920"/>
              <a:ext cx="2209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- 36"/>
                </a:rPr>
                <a:t>Fractal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7320" y="444600"/>
            <a:ext cx="81392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39680"/>
            <a:ext cx="87026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4362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9820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90694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79360" y="-673200"/>
            <a:ext cx="10737720" cy="79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/>
          </p:cNvPr>
          <p:cNvSpPr/>
          <p:nvPr/>
        </p:nvSpPr>
        <p:spPr>
          <a:xfrm>
            <a:off x="291960" y="647640"/>
            <a:ext cx="90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0"/>
                </a:solidFill>
                <a:latin typeface="Times New Roman - 20"/>
              </a:rPr>
              <a:t>http://www.coolmath4kids.com/fractals/fractalgenerators/generator3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8240" y="1663560"/>
            <a:ext cx="7151400" cy="2770200"/>
          </a:xfrm>
          <a:custGeom>
            <a:avLst/>
            <a:gdLst/>
            <a:ahLst/>
            <a:rect l="l" t="t" r="r" b="b"/>
            <a:pathLst>
              <a:path w="4505" h="1745">
                <a:moveTo>
                  <a:pt x="0" y="0"/>
                </a:moveTo>
                <a:lnTo>
                  <a:pt x="4504" y="0"/>
                </a:lnTo>
                <a:lnTo>
                  <a:pt x="4504" y="1744"/>
                </a:lnTo>
                <a:lnTo>
                  <a:pt x="0" y="17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0320" y="2260440"/>
            <a:ext cx="6222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You can experiment on your computer at home using this si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Connection to the site is also in the attachments to this smartboar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" y="787320"/>
            <a:ext cx="9575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e0"/>
                </a:solidFill>
                <a:latin typeface="Arial - 36"/>
              </a:rPr>
              <a:t>During this project you are going to make your own fractals and investigate the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45200" y="3505320"/>
            <a:ext cx="5151240" cy="386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9680" y="2502000"/>
            <a:ext cx="924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Arial - 36"/>
              </a:rPr>
              <a:t>If you want to create some on your computer at home use the coolmaths website. Bring them in to show us</a:t>
            </a:r>
            <a:r>
              <a:rPr b="0" lang="en-GB" sz="3600" spc="-1" strike="noStrike">
                <a:solidFill>
                  <a:srgbClr val="000000"/>
                </a:solidFill>
                <a:latin typeface="Arial - 36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960" y="5067360"/>
            <a:ext cx="9118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e0"/>
                </a:solidFill>
                <a:latin typeface="Arial - 36"/>
              </a:rPr>
              <a:t>Also during the project see what more you can find out about fractal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30520" y="24130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920" y="0"/>
            <a:ext cx="1297080" cy="125892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84200"/>
            <a:ext cx="712800" cy="68760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70080" y="63360"/>
            <a:ext cx="395280" cy="35748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168560"/>
            <a:ext cx="1296720" cy="125856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4533200">
            <a:off x="2349360" y="4508280"/>
            <a:ext cx="1296720" cy="125892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32320" y="53352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4554800">
            <a:off x="3454200" y="222228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7053000">
            <a:off x="5371560" y="219708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4482800">
            <a:off x="1803240" y="523224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160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27400" y="104148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67360" y="101592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0960" y="1752480"/>
            <a:ext cx="395280" cy="35748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5272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25020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9680" y="2413080"/>
            <a:ext cx="149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Use these infinite clon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continue this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What is the rule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676520" y="101520"/>
            <a:ext cx="2630520" cy="2465640"/>
            <a:chOff x="1676520" y="101520"/>
            <a:chExt cx="2630520" cy="2465640"/>
          </a:xfrm>
        </p:grpSpPr>
        <p:sp>
          <p:nvSpPr>
            <p:cNvPr id="95" name=""/>
            <p:cNvSpPr/>
            <p:nvPr/>
          </p:nvSpPr>
          <p:spPr>
            <a:xfrm>
              <a:off x="1676520" y="1015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5560" y="1701720"/>
              <a:ext cx="2209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- 36"/>
                </a:rPr>
                <a:t>shape 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97680" y="1143000"/>
            <a:ext cx="395280" cy="414000"/>
            <a:chOff x="6997680" y="1143000"/>
            <a:chExt cx="395280" cy="414000"/>
          </a:xfrm>
        </p:grpSpPr>
        <p:sp>
          <p:nvSpPr>
            <p:cNvPr id="98" name=""/>
            <p:cNvSpPr/>
            <p:nvPr/>
          </p:nvSpPr>
          <p:spPr>
            <a:xfrm>
              <a:off x="6997680" y="1143000"/>
              <a:ext cx="395280" cy="35712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12160" y="1371600"/>
              <a:ext cx="228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 - 36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280040" y="647640"/>
            <a:ext cx="1296720" cy="1274760"/>
            <a:chOff x="4280040" y="647640"/>
            <a:chExt cx="1296720" cy="1274760"/>
          </a:xfrm>
        </p:grpSpPr>
        <p:sp>
          <p:nvSpPr>
            <p:cNvPr id="101" name=""/>
            <p:cNvSpPr/>
            <p:nvPr/>
          </p:nvSpPr>
          <p:spPr>
            <a:xfrm>
              <a:off x="4280040" y="64764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600200"/>
              <a:ext cx="101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- 36"/>
                </a:rPr>
                <a:t>shape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45120" y="1003320"/>
            <a:ext cx="712800" cy="810360"/>
            <a:chOff x="6045120" y="1003320"/>
            <a:chExt cx="712800" cy="810360"/>
          </a:xfrm>
        </p:grpSpPr>
        <p:sp>
          <p:nvSpPr>
            <p:cNvPr id="104" name=""/>
            <p:cNvSpPr/>
            <p:nvPr/>
          </p:nvSpPr>
          <p:spPr>
            <a:xfrm>
              <a:off x="6045120" y="10033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35560" y="1536840"/>
              <a:ext cx="432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 - 36"/>
                </a:rPr>
                <a:t>shape 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0880" y="3200400"/>
            <a:ext cx="9348840" cy="3583080"/>
          </a:xfrm>
          <a:custGeom>
            <a:avLst/>
            <a:gdLst/>
            <a:ahLst/>
            <a:rect l="l" t="t" r="r" b="b"/>
            <a:pathLst>
              <a:path w="5889" h="2257">
                <a:moveTo>
                  <a:pt x="0" y="0"/>
                </a:moveTo>
                <a:lnTo>
                  <a:pt x="5888" y="0"/>
                </a:lnTo>
                <a:lnTo>
                  <a:pt x="5888" y="2256"/>
                </a:lnTo>
                <a:lnTo>
                  <a:pt x="0" y="2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000680"/>
            <a:ext cx="9601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1 is a 16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2 is an 8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3 is a 4cm sided equilateral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4 is a 2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00" y="495360"/>
            <a:ext cx="9759960" cy="310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09960" y="3689280"/>
            <a:ext cx="40608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676520" y="101520"/>
            <a:ext cx="2762280" cy="2590920"/>
            <a:chOff x="1676520" y="101520"/>
            <a:chExt cx="2762280" cy="2590920"/>
          </a:xfrm>
        </p:grpSpPr>
        <p:sp>
          <p:nvSpPr>
            <p:cNvPr id="109" name=""/>
            <p:cNvSpPr/>
            <p:nvPr/>
          </p:nvSpPr>
          <p:spPr>
            <a:xfrm>
              <a:off x="1676520" y="101520"/>
              <a:ext cx="2762280" cy="2590920"/>
            </a:xfrm>
            <a:custGeom>
              <a:avLst/>
              <a:gdLst/>
              <a:ahLst/>
              <a:rect l="l" t="t" r="r" b="b"/>
              <a:pathLst>
                <a:path w="1740" h="1632">
                  <a:moveTo>
                    <a:pt x="1739" y="1629"/>
                  </a:moveTo>
                  <a:lnTo>
                    <a:pt x="0" y="1631"/>
                  </a:lnTo>
                  <a:lnTo>
                    <a:pt x="870" y="0"/>
                  </a:lnTo>
                  <a:lnTo>
                    <a:pt x="1739" y="1629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0760" y="1778040"/>
              <a:ext cx="23115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Arial - 36"/>
                </a:rPr>
                <a:t>shape 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5680" y="3301920"/>
            <a:ext cx="9753480" cy="3390840"/>
            <a:chOff x="355680" y="3301920"/>
            <a:chExt cx="9753480" cy="3390840"/>
          </a:xfrm>
        </p:grpSpPr>
        <p:sp>
          <p:nvSpPr>
            <p:cNvPr id="112" name=""/>
            <p:cNvSpPr/>
            <p:nvPr/>
          </p:nvSpPr>
          <p:spPr>
            <a:xfrm>
              <a:off x="4140360" y="5423040"/>
              <a:ext cx="596880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3403440"/>
              <a:ext cx="9653760" cy="3151440"/>
            </a:xfrm>
            <a:custGeom>
              <a:avLst/>
              <a:gdLst/>
              <a:ahLst/>
              <a:rect l="l" t="t" r="r" b="b"/>
              <a:pathLst>
                <a:path w="6081" h="1985">
                  <a:moveTo>
                    <a:pt x="0" y="0"/>
                  </a:moveTo>
                  <a:lnTo>
                    <a:pt x="6080" y="0"/>
                  </a:lnTo>
                  <a:lnTo>
                    <a:pt x="6080" y="1984"/>
                  </a:lnTo>
                  <a:lnTo>
                    <a:pt x="0" y="1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140360"/>
              <a:ext cx="963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4800600"/>
              <a:ext cx="961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840" y="5423040"/>
              <a:ext cx="9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5680" y="6058080"/>
              <a:ext cx="962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56000" y="3454560"/>
              <a:ext cx="0" cy="32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61240" y="3301920"/>
              <a:ext cx="0" cy="323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1080" y="3454560"/>
              <a:ext cx="0" cy="32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5000" y="3403440"/>
              <a:ext cx="0" cy="323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0560" y="416556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61240" y="5435640"/>
              <a:ext cx="1414800" cy="611280"/>
            </a:xfrm>
            <a:custGeom>
              <a:avLst/>
              <a:gdLst/>
              <a:ahLst/>
              <a:rect l="l" t="t" r="r" b="b"/>
              <a:pathLst>
                <a:path w="891" h="385">
                  <a:moveTo>
                    <a:pt x="0" y="0"/>
                  </a:moveTo>
                  <a:lnTo>
                    <a:pt x="890" y="0"/>
                  </a:lnTo>
                  <a:lnTo>
                    <a:pt x="890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23440" y="480060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23440" y="4178160"/>
              <a:ext cx="1461960" cy="63684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16556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13680" y="480060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356000" y="356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48640" y="3492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7040" y="351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530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0240" y="411480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shape 1 fit in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640" y="6045120"/>
            <a:ext cx="2514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4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0240" y="5511960"/>
            <a:ext cx="2540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3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4813200"/>
            <a:ext cx="2565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2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67360" y="22860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 - 24"/>
              </a:rPr>
              <a:t>Infinite cl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62440" y="420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38760" y="4915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46640" y="4826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4532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9476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9600" y="5423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34240" y="6134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37240" y="5575320"/>
            <a:ext cx="76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10360" y="6108840"/>
            <a:ext cx="76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75040" y="6146640"/>
            <a:ext cx="76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6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51480" y="714240"/>
            <a:ext cx="579600" cy="674640"/>
            <a:chOff x="5451480" y="714240"/>
            <a:chExt cx="579600" cy="674640"/>
          </a:xfrm>
        </p:grpSpPr>
        <p:sp>
          <p:nvSpPr>
            <p:cNvPr id="148" name=""/>
            <p:cNvSpPr/>
            <p:nvPr/>
          </p:nvSpPr>
          <p:spPr>
            <a:xfrm>
              <a:off x="5451480" y="714240"/>
              <a:ext cx="579600" cy="557280"/>
            </a:xfrm>
            <a:custGeom>
              <a:avLst/>
              <a:gdLst/>
              <a:ahLst/>
              <a:rect l="l" t="t" r="r" b="b"/>
              <a:pathLst>
                <a:path w="365" h="351">
                  <a:moveTo>
                    <a:pt x="364" y="349"/>
                  </a:moveTo>
                  <a:lnTo>
                    <a:pt x="0" y="350"/>
                  </a:lnTo>
                  <a:lnTo>
                    <a:pt x="182" y="0"/>
                  </a:lnTo>
                  <a:lnTo>
                    <a:pt x="364" y="349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87920" y="1143000"/>
              <a:ext cx="381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 - 36"/>
                </a:rPr>
                <a:t>shape 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97480" y="1012680"/>
            <a:ext cx="192240" cy="244440"/>
            <a:chOff x="6297480" y="1012680"/>
            <a:chExt cx="192240" cy="244440"/>
          </a:xfrm>
        </p:grpSpPr>
        <p:sp>
          <p:nvSpPr>
            <p:cNvPr id="151" name=""/>
            <p:cNvSpPr/>
            <p:nvPr/>
          </p:nvSpPr>
          <p:spPr>
            <a:xfrm>
              <a:off x="6297480" y="1012680"/>
              <a:ext cx="185760" cy="16056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116" y="100"/>
                  </a:moveTo>
                  <a:lnTo>
                    <a:pt x="0" y="100"/>
                  </a:lnTo>
                  <a:lnTo>
                    <a:pt x="58" y="0"/>
                  </a:lnTo>
                  <a:lnTo>
                    <a:pt x="116" y="100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40e0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11880" y="1117440"/>
              <a:ext cx="177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" spc="-1" strike="noStrike">
                  <a:solidFill>
                    <a:srgbClr val="40e0d0"/>
                  </a:solidFill>
                  <a:latin typeface="Arial - 36"/>
                </a:rPr>
                <a:t>4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165560" y="380880"/>
            <a:ext cx="1297080" cy="1274760"/>
            <a:chOff x="4165560" y="380880"/>
            <a:chExt cx="1297080" cy="1274760"/>
          </a:xfrm>
        </p:grpSpPr>
        <p:sp>
          <p:nvSpPr>
            <p:cNvPr id="154" name=""/>
            <p:cNvSpPr/>
            <p:nvPr/>
          </p:nvSpPr>
          <p:spPr>
            <a:xfrm>
              <a:off x="4165560" y="38088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1560" y="1333440"/>
              <a:ext cx="101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- 36"/>
                </a:rPr>
                <a:t>shape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5480" y="18478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17840" y="1104840"/>
            <a:ext cx="4559400" cy="3841920"/>
          </a:xfrm>
          <a:custGeom>
            <a:avLst/>
            <a:gdLst/>
            <a:ahLst/>
            <a:rect l="l" t="t" r="r" b="b"/>
            <a:pathLst>
              <a:path w="2872" h="2420">
                <a:moveTo>
                  <a:pt x="0" y="0"/>
                </a:moveTo>
                <a:lnTo>
                  <a:pt x="2871" y="0"/>
                </a:lnTo>
                <a:lnTo>
                  <a:pt x="2871" y="2419"/>
                </a:lnTo>
                <a:lnTo>
                  <a:pt x="0" y="24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6600" y="1346040"/>
            <a:ext cx="330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shape 1 perime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3800" y="19810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36"/>
              </a:rPr>
              <a:t>3x16=4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05240" y="3162240"/>
            <a:ext cx="482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perimeter of extended frac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48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46240" y="1270080"/>
            <a:ext cx="4581360" cy="4378320"/>
            <a:chOff x="246240" y="1270080"/>
            <a:chExt cx="4581360" cy="4378320"/>
          </a:xfrm>
        </p:grpSpPr>
        <p:sp>
          <p:nvSpPr>
            <p:cNvPr id="162" name=""/>
            <p:cNvSpPr/>
            <p:nvPr/>
          </p:nvSpPr>
          <p:spPr>
            <a:xfrm>
              <a:off x="1206360" y="2514600"/>
              <a:ext cx="2630520" cy="246528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6200" y="127008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6240" y="436104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30520" y="428004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029200" y="914400"/>
            <a:ext cx="4327560" cy="3425760"/>
          </a:xfrm>
          <a:custGeom>
            <a:avLst/>
            <a:gdLst/>
            <a:ahLst/>
            <a:rect l="l" t="t" r="r" b="b"/>
            <a:pathLst>
              <a:path w="2726" h="2158">
                <a:moveTo>
                  <a:pt x="0" y="0"/>
                </a:moveTo>
                <a:lnTo>
                  <a:pt x="2725" y="0"/>
                </a:lnTo>
                <a:lnTo>
                  <a:pt x="2725" y="2157"/>
                </a:lnTo>
                <a:lnTo>
                  <a:pt x="0" y="215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67360" y="1193760"/>
            <a:ext cx="2997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- 36"/>
              </a:rPr>
              <a:t>Perimeter of shape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67360" y="165096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36"/>
              </a:rPr>
              <a:t>3x8=2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1800" y="259092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- 22"/>
              </a:rPr>
              <a:t>Perimeter of extended frac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9960" y="3378240"/>
            <a:ext cx="375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26"/>
              </a:rPr>
              <a:t>24+24+24+48 =120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0800" y="736560"/>
            <a:ext cx="5756760" cy="5497200"/>
            <a:chOff x="10800" y="736560"/>
            <a:chExt cx="5756760" cy="5497200"/>
          </a:xfrm>
        </p:grpSpPr>
        <p:sp>
          <p:nvSpPr>
            <p:cNvPr id="172" name=""/>
            <p:cNvSpPr/>
            <p:nvPr/>
          </p:nvSpPr>
          <p:spPr>
            <a:xfrm>
              <a:off x="1650960" y="26161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60440" y="137160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4533200">
              <a:off x="435600" y="470448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2760" y="736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472800">
              <a:off x="1676160" y="22730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22226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50600">
              <a:off x="25200" y="529596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65160" y="38228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0640" y="5308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75120" y="438156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80040" y="37339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4760" y="53341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67160" y="53467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45120" y="1092240"/>
            <a:ext cx="3862440" cy="4599000"/>
          </a:xfrm>
          <a:custGeom>
            <a:avLst/>
            <a:gdLst/>
            <a:ahLst/>
            <a:rect l="l" t="t" r="r" b="b"/>
            <a:pathLst>
              <a:path w="2433" h="2897">
                <a:moveTo>
                  <a:pt x="0" y="0"/>
                </a:moveTo>
                <a:lnTo>
                  <a:pt x="2432" y="0"/>
                </a:lnTo>
                <a:lnTo>
                  <a:pt x="2432" y="2896"/>
                </a:lnTo>
                <a:lnTo>
                  <a:pt x="0" y="28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66040" y="1320840"/>
            <a:ext cx="3149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0"/>
              </a:rPr>
              <a:t>perimeter of shap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0"/>
              </a:rPr>
              <a:t>3x4= 12c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34040" y="3365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- 20"/>
              </a:rPr>
              <a:t>perimeter of extended frac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70680" y="38988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0"/>
              </a:rPr>
              <a:t>48 + 3x24+9x12= 22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190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191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71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2"/>
              </a:rPr>
              <a:t>perimeter of sh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2"/>
              </a:rPr>
              <a:t>3x2=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1360" y="2095560"/>
            <a:ext cx="500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2"/>
              </a:rPr>
              <a:t>perimeter of extended frac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2"/>
              </a:rPr>
              <a:t>48+ 3x24 +9x12 + 27x6 =390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5480" y="18478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7840" y="1104840"/>
            <a:ext cx="4559400" cy="3841920"/>
          </a:xfrm>
          <a:custGeom>
            <a:avLst/>
            <a:gdLst/>
            <a:ahLst/>
            <a:rect l="l" t="t" r="r" b="b"/>
            <a:pathLst>
              <a:path w="2872" h="2420">
                <a:moveTo>
                  <a:pt x="0" y="0"/>
                </a:moveTo>
                <a:lnTo>
                  <a:pt x="2871" y="0"/>
                </a:lnTo>
                <a:lnTo>
                  <a:pt x="2871" y="2419"/>
                </a:lnTo>
                <a:lnTo>
                  <a:pt x="0" y="24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8640" y="129528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area of shape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256 triangles you can find this by drawing a 16cm triangle on iscometric pap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37240" y="3835440"/>
            <a:ext cx="42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36"/>
              </a:rPr>
              <a:t>area of extended frac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36"/>
              </a:rPr>
              <a:t>256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10800000">
            <a:off x="4518000" y="774360"/>
            <a:ext cx="5872320" cy="5106960"/>
          </a:xfrm>
          <a:custGeom>
            <a:avLst/>
            <a:gdLst/>
            <a:ahLst/>
            <a:rect l="l" t="t" r="r" b="b"/>
            <a:pathLst>
              <a:path w="3699" h="3217">
                <a:moveTo>
                  <a:pt x="3698" y="3213"/>
                </a:moveTo>
                <a:lnTo>
                  <a:pt x="0" y="3216"/>
                </a:lnTo>
                <a:lnTo>
                  <a:pt x="1850" y="0"/>
                </a:lnTo>
                <a:lnTo>
                  <a:pt x="3698" y="3213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-1387800" y="748800"/>
            <a:ext cx="5871960" cy="5106960"/>
          </a:xfrm>
          <a:custGeom>
            <a:avLst/>
            <a:gdLst/>
            <a:ahLst/>
            <a:rect l="l" t="t" r="r" b="b"/>
            <a:pathLst>
              <a:path w="3699" h="3217">
                <a:moveTo>
                  <a:pt x="3698" y="3213"/>
                </a:moveTo>
                <a:lnTo>
                  <a:pt x="0" y="3216"/>
                </a:lnTo>
                <a:lnTo>
                  <a:pt x="1850" y="0"/>
                </a:lnTo>
                <a:lnTo>
                  <a:pt x="3698" y="3213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" y="5829480"/>
            <a:ext cx="10136160" cy="1550880"/>
          </a:xfrm>
          <a:custGeom>
            <a:avLst/>
            <a:gdLst/>
            <a:ahLst/>
            <a:rect l="l" t="t" r="r" b="b"/>
            <a:pathLst>
              <a:path w="6385" h="977">
                <a:moveTo>
                  <a:pt x="0" y="0"/>
                </a:moveTo>
                <a:lnTo>
                  <a:pt x="6384" y="0"/>
                </a:lnTo>
                <a:lnTo>
                  <a:pt x="6384" y="976"/>
                </a:lnTo>
                <a:lnTo>
                  <a:pt x="0" y="97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50760" y="3137040"/>
            <a:ext cx="1550880" cy="2681280"/>
          </a:xfrm>
          <a:custGeom>
            <a:avLst/>
            <a:gdLst/>
            <a:ahLst/>
            <a:rect l="l" t="t" r="r" b="b"/>
            <a:pathLst>
              <a:path w="977" h="1689">
                <a:moveTo>
                  <a:pt x="0" y="0"/>
                </a:moveTo>
                <a:lnTo>
                  <a:pt x="976" y="1688"/>
                </a:lnTo>
                <a:lnTo>
                  <a:pt x="0" y="168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428960" y="1143000"/>
            <a:ext cx="2801880" cy="4722840"/>
          </a:xfrm>
          <a:custGeom>
            <a:avLst/>
            <a:gdLst/>
            <a:ahLst/>
            <a:rect l="l" t="t" r="r" b="b"/>
            <a:pathLst>
              <a:path w="1765" h="2975">
                <a:moveTo>
                  <a:pt x="0" y="0"/>
                </a:moveTo>
                <a:lnTo>
                  <a:pt x="1764" y="2974"/>
                </a:lnTo>
                <a:lnTo>
                  <a:pt x="0" y="297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" y="12600"/>
            <a:ext cx="10164600" cy="738360"/>
          </a:xfrm>
          <a:custGeom>
            <a:avLst/>
            <a:gdLst/>
            <a:ahLst/>
            <a:rect l="l" t="t" r="r" b="b"/>
            <a:pathLst>
              <a:path w="6403" h="465">
                <a:moveTo>
                  <a:pt x="0" y="0"/>
                </a:moveTo>
                <a:lnTo>
                  <a:pt x="6402" y="0"/>
                </a:lnTo>
                <a:lnTo>
                  <a:pt x="6402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49440" y="698040"/>
            <a:ext cx="5943600" cy="5169240"/>
            <a:chOff x="1549440" y="698040"/>
            <a:chExt cx="5943600" cy="5169240"/>
          </a:xfrm>
        </p:grpSpPr>
        <p:sp>
          <p:nvSpPr>
            <p:cNvPr id="245" name=""/>
            <p:cNvSpPr/>
            <p:nvPr/>
          </p:nvSpPr>
          <p:spPr>
            <a:xfrm>
              <a:off x="1587600" y="5854680"/>
              <a:ext cx="59054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549440" y="698040"/>
              <a:ext cx="2984400" cy="51310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4533840" y="736560"/>
              <a:ext cx="2959200" cy="513072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32440" y="266760"/>
            <a:ext cx="2921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- 36"/>
              </a:rPr>
              <a:t>You can find out how many unit triangles in the larger shapes by using isometric pap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- 36"/>
              </a:rPr>
              <a:t>Can you find a quicker way than counting the triangles to calculate the number of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6240" y="1270080"/>
            <a:ext cx="4581360" cy="4378320"/>
            <a:chOff x="246240" y="1270080"/>
            <a:chExt cx="4581360" cy="4378320"/>
          </a:xfrm>
        </p:grpSpPr>
        <p:sp>
          <p:nvSpPr>
            <p:cNvPr id="250" name=""/>
            <p:cNvSpPr/>
            <p:nvPr/>
          </p:nvSpPr>
          <p:spPr>
            <a:xfrm>
              <a:off x="1206360" y="2514600"/>
              <a:ext cx="2630520" cy="246528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16200" y="127008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6240" y="436104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30520" y="428004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29200" y="914400"/>
            <a:ext cx="4327560" cy="3425760"/>
          </a:xfrm>
          <a:custGeom>
            <a:avLst/>
            <a:gdLst/>
            <a:ahLst/>
            <a:rect l="l" t="t" r="r" b="b"/>
            <a:pathLst>
              <a:path w="2726" h="2158">
                <a:moveTo>
                  <a:pt x="0" y="0"/>
                </a:moveTo>
                <a:lnTo>
                  <a:pt x="2725" y="0"/>
                </a:lnTo>
                <a:lnTo>
                  <a:pt x="2725" y="2157"/>
                </a:lnTo>
                <a:lnTo>
                  <a:pt x="0" y="215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67360" y="1193760"/>
            <a:ext cx="228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- 36"/>
              </a:rPr>
              <a:t>area of shape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41800" y="2590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- 22"/>
              </a:rPr>
              <a:t>Area of extended frac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9960" y="3378240"/>
            <a:ext cx="416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- 26"/>
              </a:rPr>
              <a:t>256 + 64x3 =448 tri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32240" y="1663560"/>
            <a:ext cx="226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- 36"/>
              </a:rPr>
              <a:t>64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0800" y="736560"/>
            <a:ext cx="5756760" cy="5497200"/>
            <a:chOff x="10800" y="736560"/>
            <a:chExt cx="5756760" cy="5497200"/>
          </a:xfrm>
        </p:grpSpPr>
        <p:sp>
          <p:nvSpPr>
            <p:cNvPr id="260" name=""/>
            <p:cNvSpPr/>
            <p:nvPr/>
          </p:nvSpPr>
          <p:spPr>
            <a:xfrm>
              <a:off x="1650960" y="26161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60440" y="137160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4533200">
              <a:off x="435600" y="470448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2760" y="736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472800">
              <a:off x="1676160" y="22730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22226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450600">
              <a:off x="25200" y="529596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65160" y="38228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90640" y="5308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75120" y="438156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80040" y="37339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4760" y="53341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7160" y="53467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76920" y="774720"/>
            <a:ext cx="5153040" cy="3146400"/>
          </a:xfrm>
          <a:custGeom>
            <a:avLst/>
            <a:gdLst/>
            <a:ahLst/>
            <a:rect l="l" t="t" r="r" b="b"/>
            <a:pathLst>
              <a:path w="3246" h="1982">
                <a:moveTo>
                  <a:pt x="0" y="0"/>
                </a:moveTo>
                <a:lnTo>
                  <a:pt x="3245" y="0"/>
                </a:lnTo>
                <a:lnTo>
                  <a:pt x="3245" y="1981"/>
                </a:lnTo>
                <a:lnTo>
                  <a:pt x="0" y="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48240" y="1270080"/>
            <a:ext cx="2463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- 20"/>
              </a:rPr>
              <a:t>area of shap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- 20"/>
              </a:rPr>
              <a:t>16 tri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2489040"/>
            <a:ext cx="3124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- 20"/>
              </a:rPr>
              <a:t>area of extended fract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94440" y="29084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0"/>
              </a:rPr>
              <a:t>256 + 3x64 + 9x16=592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278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279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71680"/>
            <a:ext cx="2616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- 22"/>
              </a:rPr>
              <a:t>area of shape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- 22"/>
              </a:rPr>
              <a:t>4 triang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2120" y="2057400"/>
            <a:ext cx="744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2"/>
              </a:rPr>
              <a:t>area of extended fra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2"/>
              </a:rPr>
              <a:t>256+ 3x64 +9x16 +27x4 =700triangles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866960"/>
            <a:ext cx="257328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8160" y="787320"/>
            <a:ext cx="674388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70280" y="1879560"/>
            <a:ext cx="2917800" cy="14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31000" y="1866960"/>
            <a:ext cx="3287520" cy="147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31640" y="3263760"/>
            <a:ext cx="3373560" cy="153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991040" y="3251160"/>
            <a:ext cx="4170600" cy="189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89240" y="279360"/>
            <a:ext cx="34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 - 16"/>
              </a:rPr>
              <a:t>The Koch Snowf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7080" y="4724280"/>
            <a:ext cx="104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- 36"/>
              </a:rPr>
              <a:t>It is a field of mathematics that is still being researched. Iterative equations are set up on the computer and allowed to run. They produce different patter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343080"/>
            <a:ext cx="4012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Demonstration of a frac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6858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323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1360" y="10288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28"/>
              </a:rPr>
              <a:t>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1549440"/>
            <a:ext cx="441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8"/>
              </a:rPr>
              <a:t>shape</a:t>
            </a:r>
            <a:r>
              <a:rPr b="0" lang="en-GB" sz="25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 - 28"/>
              </a:rPr>
              <a:t>⇒</a:t>
            </a:r>
            <a:r>
              <a:rPr b="0" lang="en-GB" sz="2500" spc="-1" strike="noStrike">
                <a:solidFill>
                  <a:srgbClr val="000000"/>
                </a:solidFill>
                <a:latin typeface="Arial - 28"/>
              </a:rPr>
              <a:t>Equilateral triang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51360" y="2120760"/>
            <a:ext cx="35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perimeter</a:t>
            </a: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 - 28"/>
              </a:rPr>
              <a:t>⇒ </a:t>
            </a: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192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2717640"/>
            <a:ext cx="434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are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 - 28"/>
              </a:rPr>
              <a:t>⇒</a:t>
            </a: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1024 unit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59520" y="4114800"/>
            <a:ext cx="2833920" cy="2135160"/>
          </a:xfrm>
          <a:custGeom>
            <a:avLst/>
            <a:gdLst/>
            <a:ahLst/>
            <a:rect l="l" t="t" r="r" b="b"/>
            <a:pathLst>
              <a:path w="1785" h="1345">
                <a:moveTo>
                  <a:pt x="0" y="0"/>
                </a:moveTo>
                <a:lnTo>
                  <a:pt x="1784" y="0"/>
                </a:lnTo>
                <a:lnTo>
                  <a:pt x="1784" y="1344"/>
                </a:lnTo>
                <a:lnTo>
                  <a:pt x="0" y="13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178160"/>
            <a:ext cx="27939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How can we show that as you add more shapes both the area and the perimeter tend to a limit valu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89520" y="241200"/>
            <a:ext cx="1803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Challe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566040" y="462276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-165240" y="-21600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419040" y="467352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6730920" y="-317520"/>
            <a:ext cx="3595680" cy="2630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63560" y="444600"/>
            <a:ext cx="703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You will be given some rules and you need to use coloured paper to make your frac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1. Investigate the relationship between each size of shape. How many shape 1 fit into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2. Find the area of each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3. Find the perimeter of each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4. What happens as each layer gets added.  What happens at the li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15920" y="203040"/>
            <a:ext cx="831240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55600" y="482760"/>
            <a:ext cx="75726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20840" y="393840"/>
            <a:ext cx="80470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27000" y="469800"/>
            <a:ext cx="81057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44520" y="431640"/>
            <a:ext cx="78645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2440" y="304920"/>
            <a:ext cx="89676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4:13Z</dcterms:created>
  <dc:creator>image</dc:creator>
  <dc:description/>
  <dc:language>en-US</dc:language>
  <cp:lastModifiedBy>image</cp:lastModifiedBy>
  <dcterms:modified xsi:type="dcterms:W3CDTF">2011-04-19T10:26:07Z</dcterms:modified>
  <cp:revision>2</cp:revision>
  <dc:subject/>
  <dc:title>Slide 1</dc:title>
</cp:coreProperties>
</file>